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353-3AC9-426A-BE28-46132896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08E-5932-48CE-91B1-A615E1C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349-7425-4BCC-AB80-08987A6E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A51-C1DB-4201-B4AD-F2266A6F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52C-D686-4D4C-84F5-D868B66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5E4-5B6F-49C7-9D30-0B0673B6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BFA-0718-4D90-A1DA-62F8DC0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03A-1D9B-4A90-BFE7-22E64D57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A7C-7253-4FEB-9D57-0ED8E1E3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A15-14BF-4A15-B618-FFB51E5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665-C7EC-4743-BB10-05B992F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753-9567-4C93-9C64-309BB63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19B-4BD5-40F4-BCE5-9868C850F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rian ______ got an English exam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190800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Utilisateur\AppData\Local\Microsoft\Windows\Temporary Internet Files\Content.IE5\USQFLY1I\MC900398129[1].wmf"/>
          <p:cNvPicPr/>
          <p:nvPr/>
        </p:nvPicPr>
        <p:blipFill>
          <a:blip r:embed="rId2"/>
          <a:stretch/>
        </p:blipFill>
        <p:spPr>
          <a:xfrm>
            <a:off x="1187280" y="1197000"/>
            <a:ext cx="331344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 three child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197964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Utilisateur\AppData\Local\Microsoft\Windows\Temporary Internet Files\Content.IE5\RSBRH1Y9\MC900014777[1].wmf"/>
          <p:cNvPicPr/>
          <p:nvPr/>
        </p:nvPicPr>
        <p:blipFill>
          <a:blip r:embed="rId2"/>
          <a:stretch/>
        </p:blipFill>
        <p:spPr>
          <a:xfrm>
            <a:off x="1403280" y="1125360"/>
            <a:ext cx="24368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He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heada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169236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Utilisateur\AppData\Local\Microsoft\Windows\Temporary Internet Files\Content.IE5\BRPHJLLS\MC900359069[1].wmf"/>
          <p:cNvPicPr/>
          <p:nvPr/>
        </p:nvPicPr>
        <p:blipFill>
          <a:blip r:embed="rId2"/>
          <a:stretch/>
        </p:blipFill>
        <p:spPr>
          <a:xfrm>
            <a:off x="684360" y="1197000"/>
            <a:ext cx="381636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David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lond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2124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Utilisateur\AppData\Local\Microsoft\Windows\Temporary Internet Files\Content.IE5\15RKHX53\MC900411498[1].wmf"/>
          <p:cNvPicPr/>
          <p:nvPr/>
        </p:nvPicPr>
        <p:blipFill>
          <a:blip r:embed="rId2"/>
          <a:stretch/>
        </p:blipFill>
        <p:spPr>
          <a:xfrm>
            <a:off x="971640" y="1341360"/>
            <a:ext cx="3240000" cy="37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3"/>
          <p:cNvSpPr/>
          <p:nvPr/>
        </p:nvSpPr>
        <p:spPr>
          <a:xfrm>
            <a:off x="250920" y="472428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She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lot of 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o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1835280" y="472428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Utilisateur\AppData\Local\Microsoft\Windows\Temporary Internet Files\Content.IE5\M4ZJXKMQ\MC900412374[1].wmf"/>
          <p:cNvPicPr/>
          <p:nvPr/>
        </p:nvPicPr>
        <p:blipFill>
          <a:blip r:embed="rId2"/>
          <a:stretch/>
        </p:blipFill>
        <p:spPr>
          <a:xfrm>
            <a:off x="1547640" y="981000"/>
            <a:ext cx="2448000" cy="395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3"/>
          <p:cNvSpPr/>
          <p:nvPr/>
        </p:nvSpPr>
        <p:spPr>
          <a:xfrm>
            <a:off x="250920" y="472428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It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w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11"/>
          <p:cNvSpPr/>
          <p:nvPr/>
        </p:nvSpPr>
        <p:spPr>
          <a:xfrm>
            <a:off x="154764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Utilisateur\AppData\Local\Microsoft\Windows\Temporary Internet Files\Content.IE5\USQFLY1I\MC900287484[1].wmf"/>
          <p:cNvPicPr/>
          <p:nvPr/>
        </p:nvPicPr>
        <p:blipFill>
          <a:blip r:embed="rId2"/>
          <a:stretch/>
        </p:blipFill>
        <p:spPr>
          <a:xfrm>
            <a:off x="1258920" y="1268280"/>
            <a:ext cx="3313080" cy="381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My parents 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new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3348000" y="4653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tilisateur\AppData\Local\Microsoft\Windows\Temporary Internet Files\Content.IE5\M4ZJXKMQ\MC900426056[1].wmf"/>
          <p:cNvPicPr/>
          <p:nvPr/>
        </p:nvPicPr>
        <p:blipFill>
          <a:blip r:embed="rId2"/>
          <a:stretch/>
        </p:blipFill>
        <p:spPr>
          <a:xfrm>
            <a:off x="826920" y="1413000"/>
            <a:ext cx="37274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Jane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d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1"/>
          <p:cNvSpPr/>
          <p:nvPr/>
        </p:nvSpPr>
        <p:spPr>
          <a:xfrm>
            <a:off x="241128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Utilisateur\AppData\Local\Microsoft\Windows\Temporary Internet Files\Content.IE5\15RKHX53\MC900318598[1].wmf"/>
          <p:cNvPicPr/>
          <p:nvPr/>
        </p:nvPicPr>
        <p:blipFill>
          <a:blip r:embed="rId2"/>
          <a:stretch/>
        </p:blipFill>
        <p:spPr>
          <a:xfrm>
            <a:off x="1187280" y="1413000"/>
            <a:ext cx="309744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lot of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1835280" y="472428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tilisateur\AppData\Local\Microsoft\Windows\Temporary Internet Files\Content.IE5\WQ03Z85L\MC900434810[1].png"/>
          <p:cNvPicPr/>
          <p:nvPr/>
        </p:nvPicPr>
        <p:blipFill>
          <a:blip r:embed="rId2"/>
          <a:stretch/>
        </p:blipFill>
        <p:spPr>
          <a:xfrm>
            <a:off x="1042920" y="1052640"/>
            <a:ext cx="3457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 dog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b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284328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tilisateur\AppData\Local\Microsoft\Windows\Temporary Internet Files\Content.IE5\WQ03Z85L\MC900410779[1].wmf"/>
          <p:cNvPicPr/>
          <p:nvPr/>
        </p:nvPicPr>
        <p:blipFill>
          <a:blip r:embed="rId2"/>
          <a:stretch/>
        </p:blipFill>
        <p:spPr>
          <a:xfrm>
            <a:off x="1187280" y="1197000"/>
            <a:ext cx="309744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Diana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long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190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Utilisateur\AppData\Local\Microsoft\Windows\Temporary Internet Files\Content.IE5\BRPHJLLS\MC900416054[1].wmf"/>
          <p:cNvPicPr/>
          <p:nvPr/>
        </p:nvPicPr>
        <p:blipFill>
          <a:blip r:embed="rId2"/>
          <a:stretch/>
        </p:blipFill>
        <p:spPr>
          <a:xfrm>
            <a:off x="1476360" y="1197000"/>
            <a:ext cx="280836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Paul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1"/>
          <p:cNvSpPr/>
          <p:nvPr/>
        </p:nvSpPr>
        <p:spPr>
          <a:xfrm>
            <a:off x="169236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C900232730[1]"/>
          <p:cNvPicPr/>
          <p:nvPr/>
        </p:nvPicPr>
        <p:blipFill>
          <a:blip r:embed="rId2"/>
          <a:stretch/>
        </p:blipFill>
        <p:spPr>
          <a:xfrm>
            <a:off x="1187280" y="1268280"/>
            <a:ext cx="309744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six le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190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Utilisateur\AppData\Local\Microsoft\Windows\Temporary Internet Files\Content.IE5\S4C0PV05\MC900346899[1].wmf"/>
          <p:cNvPicPr/>
          <p:nvPr/>
        </p:nvPicPr>
        <p:blipFill>
          <a:blip r:embed="rId2"/>
          <a:stretch/>
        </p:blipFill>
        <p:spPr>
          <a:xfrm>
            <a:off x="684360" y="1557360"/>
            <a:ext cx="1942920" cy="321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Utilisateur\AppData\Local\Microsoft\Windows\Temporary Internet Files\Content.IE5\S4C0PV05\MC900346899[1].wmf"/>
          <p:cNvPicPr/>
          <p:nvPr/>
        </p:nvPicPr>
        <p:blipFill>
          <a:blip r:embed="rId3"/>
          <a:stretch/>
        </p:blipFill>
        <p:spPr>
          <a:xfrm>
            <a:off x="2700360" y="1700280"/>
            <a:ext cx="180036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 twins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green ey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1"/>
          <p:cNvSpPr/>
          <p:nvPr/>
        </p:nvSpPr>
        <p:spPr>
          <a:xfrm>
            <a:off x="334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Utilisateur\AppData\Local\Microsoft\Windows\Temporary Internet Files\Content.IE5\SM3BZZ1T\MC900281284[1].wmf"/>
          <p:cNvPicPr/>
          <p:nvPr/>
        </p:nvPicPr>
        <p:blipFill>
          <a:blip r:embed="rId2"/>
          <a:stretch/>
        </p:blipFill>
        <p:spPr>
          <a:xfrm>
            <a:off x="250920" y="1773360"/>
            <a:ext cx="49165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2-04-23T09:16:21Z</dcterms:modified>
  <cp:revision>50</cp:revision>
  <dc:subject/>
  <dc:title>Diapositive 1</dc:title>
</cp:coreProperties>
</file>